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F8A-2F5E-441E-80BD-8A9C3FD8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C5A-11D7-4AD8-9E9B-3255864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8E1-C8FB-4983-8ACF-DA614825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9C0-C5D3-43CE-8BC1-B358B135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C2E-BE98-44A0-B7A9-5F45249A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19E-E781-42E4-8B83-E8F098F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868-4E4B-490D-A865-881328A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C14-4716-4172-A378-FEE7613A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1B4-9431-471E-9B03-B112A6B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241-D21F-4AD3-8E74-18F46D78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F94-3299-4B7A-9410-9E8A12E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BD9-2C74-4519-B897-12DA2C1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F98-29CC-4F30-9D6B-571735570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ко написати рад за предмет “Медицина заснована на доказима” – 12. неде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за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у од студија која задовољава критеријуме за укључивање посебно анализирати у поглед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истите критеријуме које сте навели у метод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јте све потребне параметре и прикажите их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делу дискусије сумирати резултате свих анализираних сту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делу дискусије упоредити своје резултате са резултатима систематских прегледних чланака других аутора који су писали на исту тему (обавезно проверити Кохранову базу подата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ставове поткрепљивати референцама, које се цитирају помоћу редних бројева, и наводе у “Литератур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једном пасусу дати закључак о теми која је била предмет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де не цитирати рефер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ар је онај закључак, који је сасвим јасан ономе ко га је писа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се по редоследу појављивања у 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ференце су нумерисане редним број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ти референце по Ванкуверским прави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имери навође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 у часопису: (сви аутори се наводе 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је 6 или мање; ако их је више, наводе с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прва три уз "et al.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ley NJ, Zinsmeister AR, Schleck CD, Melton Љ. Dyspepsia and dyspeptic subgroups: a population based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. Gastroenterology 1992; 102: 1259-6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њ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rlock S. Diseases of the live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biliary system. 8th ed. Oxford: Blackwell Sc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, 1989. Поглавље у књизи: 24. Trier JJ. Celiac sprue. In: Sleisenger MH, Fordtran JS, eds. Gastrointestinal disease. 4th ed. Philadelphia: WB Saunders Co, 1989: 1134-5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изворе са интернета на кр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еренце треба додати у малој загради UL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су и датум када је посећена, нпр. (Посећено у септембру 2007 на www.medf.kg.ac.yu). Ако постоји дигитални код такве референце, уместо ULR треба навести DOI, нпр. (doi: 10.1111/j.1442-2042.2007.01834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се пише ћири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раћенице енглеских назива и мерне јединице се пишу латин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нт: Тајмс њу роман, 12, са 1.5 про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ргине 2.5 центи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ат А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 не коричити, само захев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штампати у једном приме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авезно припремити електронску верзију рада у пдф формату на диску или УСБ-у и понети са собом на оцењивањ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руктура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пронађених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ку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чки детаљ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словна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рада (тема) : треба да садржи независну варијаблу, компаратор, исход и попу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е и презиме студента, број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ни наста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студијског про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 факултета и дат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аже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ако се налази после насловне стране, пише се на к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жине око 300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следеће дел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и део садржи свега 2-3 реченице, и одражава суштину одговарајућег дела 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сти и 3 кључне речи на кра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ажетку се референце не цитир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рвом пасусу објаснити шта се до сада зна о теми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другом пасусу објаснити шта није познато о теми рада д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трећем пасусу објаснити шта ће ваш рад допринети у разјашњењу непознатих чињ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 тврдњу подржати рефере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ференце се наводе помоћу редних бројева, а цитирају истим редоследом у одељку “Литератур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атегија претраживања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базе које су претражи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базу навести све комбинације кључних речи које су коришћ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сваку комбинацију кључних речи навести колико је студија пронађено, и разврстати их по категоријама (нпр. клиничка студија, прегледни чланак, експериментална студија на животињама, ит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ритеријуми за укључивање и искључивање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у студија која се узима у обзир, нпр. клиничке студије терапијског ефекта, или студије прогностичк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врсте студија које се не узимају у обзир, нпр. Прегледни чланци, експерименталне студије на животињама, прикази случајева, ит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Објаснити како се дошло до студија које се даље анализир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а сваку студију која је била пронађена, а није испунила критеријуме за укључивање или је испунила критеријуме за искључивање, навести </a:t>
            </a:r>
            <a:r>
              <a:rPr b="1" lang="sr-RS" sz="3200" spc="-1" strike="noStrike" u="sng">
                <a:solidFill>
                  <a:srgbClr val="000000"/>
                </a:solidFill>
                <a:uFillTx/>
                <a:latin typeface="Arial"/>
              </a:rPr>
              <a:t>конкретан разлог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ора из текста бити јасно како и зашто се дошло само до студија које су касније анализиране на валидност и значај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итеријуми за процену валидности, значајности и примењ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сти таксативно критеријуме које ћете користити за процену валидности, значајности и примењивости пронађених студија, које задовољавају критеријуме за укључивање и не испуњавају критеријуме за искључ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8:17:49Z</dcterms:created>
  <dc:creator>Student</dc:creator>
  <dc:description/>
  <dc:language>en-US</dc:language>
  <cp:lastModifiedBy>Slobodan Jankovic</cp:lastModifiedBy>
  <dcterms:modified xsi:type="dcterms:W3CDTF">2015-08-02T12:37:32Z</dcterms:modified>
  <cp:revision>15</cp:revision>
  <dc:subject/>
  <dc:title>Slide 1</dc:title>
</cp:coreProperties>
</file>